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5D7B-003F-418C-ADBB-3C9F30D2B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9149-30A5-44D7-A2CF-16AF397A2D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5BC3-32C6-4CE7-9DA6-CAB95628F3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19DA-4EFC-44A7-9C2A-18B3ECB146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06F5-EC4F-4785-865C-5A0D72A0DD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3EBD-C7F8-4D74-A73D-0E29DAFC8C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A9F0-F576-407B-AD5D-9424B3806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E26E-D5D9-4F7C-8502-8A17EAB303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556C-9E68-4099-86D6-CB5655B58D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879A-90DD-4F9A-BEA6-46AF97B5A8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D0FA-502C-4D14-A76F-680190C92A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8C4-43E4-40F9-B5CB-4B5DA27A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B71-2C2F-45BB-9452-234D37CC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3BA-F298-4C93-BECD-8601ED22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A0F-2645-478C-AC97-37F3DA30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C5D0-1308-4EDB-80E4-C2262B9C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B2D2-031F-492E-9CD8-71117804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B8FD-16AD-47F5-86FB-536B0619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479B-E40B-4406-9F07-18483F5B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7609-B043-4C93-8D86-DDFB5BE4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20E7-B5C2-4E66-A546-02F25C7B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6A34-E2C7-4D2B-9AB2-102AE65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500-B33B-4B0D-81CA-B9D04696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7AE1-3714-45F3-B254-F4854A51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FB5E-DFBA-4F3B-9909-554E7BFC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A1EF-CE08-465A-B162-AFE417D7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4CDA-EE92-4662-9592-9C72F680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8D1F-ECDA-4679-A54D-64339FB7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5C7-A984-49E1-B581-27D58E9D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FA3-8773-49FB-A18D-F90147D0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899-0075-4CAE-8738-C6A32CB8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3FA-0B5A-40FE-9A54-BA156340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7EE-A85A-4C3D-804A-880C97BA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FA9-AF6F-426E-9D51-1C9433D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D64-18EA-42AF-B17B-5E5B257A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4E76-78E3-40A0-8E96-B7AA029C4D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1F3C-B375-424B-93CD-68EFF5BF39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Plagiarism &amp;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iting Source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bartWRHa"/>
          <p:cNvPicPr/>
          <p:nvPr/>
        </p:nvPicPr>
        <p:blipFill>
          <a:blip r:embed="rId1"/>
          <a:srcRect l="6129" t="7997" r="9851" b="24535"/>
          <a:stretch/>
        </p:blipFill>
        <p:spPr>
          <a:xfrm>
            <a:off x="2743200" y="2514600"/>
            <a:ext cx="3654360" cy="4191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8077320" y="617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b7d20"/>
                </a:solidFill>
                <a:latin typeface="Abadi MT Condensed Extra Bold"/>
              </a:rPr>
              <a:t>www.lifeinspired.org/ quote_bubble.jp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d20"/>
                </a:solidFill>
                <a:latin typeface="Abadi MT Condensed Extra Bold"/>
              </a:rPr>
              <a:t>bookbuzz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7d20"/>
                </a:solidFill>
                <a:latin typeface="Abadi MT Condensed Extra Bold"/>
              </a:rPr>
              <a:t>www.eng.ritsumei.ac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artoonstock.com/newscartoons/cartoonists/bgr/lowres/bgrn969l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letusinsureyou.com/lightbulb%20idea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yourunion.net/files/hands-coloured.p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en.wikipedia.org/wiki/Plagiar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176880" y="266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da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plagiarism 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ays to detect plagiar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line Citation Mak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Plagiarism 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kidnap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aiming or implying authorship or someone else’s work - “academic fraud/dishonesty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 ways to plagiarize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iginal id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phras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rect quo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kidnap"/>
          <p:cNvPicPr/>
          <p:nvPr/>
        </p:nvPicPr>
        <p:blipFill>
          <a:blip r:embed="rId1"/>
          <a:stretch/>
        </p:blipFill>
        <p:spPr>
          <a:xfrm>
            <a:off x="6095880" y="0"/>
            <a:ext cx="23623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iginal Id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senting someone else’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ea without crediting th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ive credit to unique ideas others have thought u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nown facts don’t have to be cred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en in doubt, state where you got the ide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489400" cy="2489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5610240" y="2359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ct Quo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ing someone else’s writing without putting it in quotes= blatant plagar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n if you credit the source in your bibliograph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quote_bubble"/>
          <p:cNvPicPr/>
          <p:nvPr/>
        </p:nvPicPr>
        <p:blipFill>
          <a:blip r:embed="rId1"/>
          <a:stretch/>
        </p:blipFill>
        <p:spPr>
          <a:xfrm>
            <a:off x="6324480" y="380880"/>
            <a:ext cx="2006640" cy="101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images-1"/>
          <p:cNvPicPr/>
          <p:nvPr/>
        </p:nvPicPr>
        <p:blipFill>
          <a:blip r:embed="rId2"/>
          <a:stretch/>
        </p:blipFill>
        <p:spPr>
          <a:xfrm>
            <a:off x="3886200" y="533520"/>
            <a:ext cx="716040" cy="555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images-2"/>
          <p:cNvPicPr/>
          <p:nvPr/>
        </p:nvPicPr>
        <p:blipFill>
          <a:blip r:embed="rId3"/>
          <a:stretch/>
        </p:blipFill>
        <p:spPr>
          <a:xfrm>
            <a:off x="5029200" y="914400"/>
            <a:ext cx="7160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aphras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writing someone else’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ntences with many of the same words/grammar structure as original sour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ut the text in your own wor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bgrn969l"/>
          <p:cNvPicPr/>
          <p:nvPr/>
        </p:nvPicPr>
        <p:blipFill>
          <a:blip r:embed="rId1"/>
          <a:srcRect l="13006" t="18395" r="28165" b="29831"/>
          <a:stretch/>
        </p:blipFill>
        <p:spPr>
          <a:xfrm>
            <a:off x="6205680" y="152280"/>
            <a:ext cx="2144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to Avoid Plagiar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ut quotes from the text in quot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aphrasing: Rewrite phrase in your own words &amp; credit original source. Compa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n’t rearrange or replace word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n’t use “paper mills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avoid"/>
          <p:cNvPicPr/>
          <p:nvPr/>
        </p:nvPicPr>
        <p:blipFill>
          <a:blip r:embed="rId1"/>
          <a:stretch/>
        </p:blipFill>
        <p:spPr>
          <a:xfrm>
            <a:off x="5562720" y="3962520"/>
            <a:ext cx="27032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tecting Plagiar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iting style, language, vocab, tone, grammar, etc. different than expecte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fferent writing styles in different parts of the pa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line detectio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gling lines of the pa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urnitin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hands-coloured"/>
          <p:cNvPicPr/>
          <p:nvPr/>
        </p:nvPicPr>
        <p:blipFill>
          <a:blip r:embed="rId1"/>
          <a:stretch/>
        </p:blipFill>
        <p:spPr>
          <a:xfrm>
            <a:off x="6019920" y="3581280"/>
            <a:ext cx="2319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line Citation Mak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night Cite - http://www.calvin.edu/library/knightcite/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ibMe - http://www.bibme.org/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808360" y="1806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20:58:51Z</dcterms:created>
  <dc:creator>test</dc:creator>
  <dc:description/>
  <dc:language>en-US</dc:language>
  <cp:lastModifiedBy>test</cp:lastModifiedBy>
  <dcterms:modified xsi:type="dcterms:W3CDTF">2009-03-17T19:52:58Z</dcterms:modified>
  <cp:revision>8</cp:revision>
  <dc:subject/>
  <dc:title>Plagiarism &amp; Citing Sources</dc:title>
</cp:coreProperties>
</file>